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1800" cy="124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48F0F-7B86-4B09-9271-2485B006471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41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4624A-E90F-4918-ACFB-EFB526B5F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992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47635-A0BF-47C9-BCCD-80FD37D8B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712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668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712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668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82C2B-59EF-40CF-AFBD-800C2BF1BB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16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78223-F99C-406A-93BD-F9AB3DF0B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992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841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992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712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668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712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668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1C192E-7D50-463C-A848-AF24619B0D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12C48C-15F8-4224-A730-45F7B51B7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F68B3C-522F-4BF3-866D-E76E341BE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18D399-F019-44E7-A8EB-CD80A4008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558455-3005-43C6-94E8-48618C5C0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45A9E-A65B-4143-9486-93D63B18B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16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CB262C-DBA5-42ED-A405-15E3FBAD2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6F9781-C57D-4ED1-B6E2-085083E8B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6992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FB1B86-B6EC-4180-94A6-BB4513A27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38FE27-9754-42F1-86B3-7233D70BE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841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4F1554-9E84-4098-96C5-48B834BFE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6992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A8929E-126A-4D0E-8667-FADCD3FF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712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1668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712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1668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860B43-B491-4C90-8AA1-9042D11912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D69C4-4085-471A-A2D3-050DA5D4B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6232D-9BAD-419E-9215-CACAF56B9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16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9928E-8F7F-4A0B-A35D-696A27978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0C8D6-AB9F-42A4-8DE4-F7118E675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992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A16C9-C4AA-4DD6-A4EE-D502B555F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B1EBA-CFC0-4C09-BCE7-8F51709FE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6337440"/>
            <a:ext cx="9144000" cy="520560"/>
          </a:xfrm>
          <a:prstGeom prst="rect">
            <a:avLst/>
          </a:prstGeom>
          <a:gradFill rotWithShape="0">
            <a:gsLst>
              <a:gs pos="0">
                <a:srgbClr val="dfebdf"/>
              </a:gs>
              <a:gs pos="100000">
                <a:srgbClr val="a0bba0"/>
              </a:gs>
            </a:gsLst>
            <a:lin ang="5400000"/>
          </a:gradFill>
          <a:ln w="0">
            <a:noFill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400800" y="6461280"/>
            <a:ext cx="191304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3/25/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4049640" y="6264360"/>
            <a:ext cx="23511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8321760" y="6453360"/>
            <a:ext cx="357120" cy="26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3EE32E-A1EA-4533-BC80-89EED383888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7" descr=""/>
          <p:cNvPicPr/>
          <p:nvPr/>
        </p:nvPicPr>
        <p:blipFill>
          <a:blip r:embed="rId2"/>
          <a:stretch/>
        </p:blipFill>
        <p:spPr>
          <a:xfrm>
            <a:off x="8772480" y="6389640"/>
            <a:ext cx="300240" cy="4348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8" descr=""/>
          <p:cNvPicPr/>
          <p:nvPr/>
        </p:nvPicPr>
        <p:blipFill>
          <a:blip r:embed="rId3"/>
          <a:stretch/>
        </p:blipFill>
        <p:spPr>
          <a:xfrm>
            <a:off x="-6480" y="6327720"/>
            <a:ext cx="9156960" cy="3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1"/>
          <p:cNvSpPr/>
          <p:nvPr/>
        </p:nvSpPr>
        <p:spPr>
          <a:xfrm>
            <a:off x="0" y="4664160"/>
            <a:ext cx="9150480" cy="1440"/>
          </a:xfrm>
          <a:prstGeom prst="rtTriangle">
            <a:avLst/>
          </a:prstGeom>
          <a:gradFill rotWithShape="0">
            <a:gsLst>
              <a:gs pos="0">
                <a:srgbClr val="005200"/>
              </a:gs>
              <a:gs pos="50000">
                <a:srgbClr val="4f8b4f"/>
              </a:gs>
              <a:gs pos="100000">
                <a:srgbClr val="005200"/>
              </a:gs>
            </a:gsLst>
            <a:lin ang="13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080" bIns="-4608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0" y="817560"/>
            <a:ext cx="9144000" cy="1057320"/>
          </a:xfrm>
          <a:prstGeom prst="rect">
            <a:avLst/>
          </a:prstGeom>
          <a:gradFill rotWithShape="0">
            <a:gsLst>
              <a:gs pos="0">
                <a:srgbClr val="dfebdf"/>
              </a:gs>
              <a:gs pos="100000">
                <a:srgbClr val="a0bba0"/>
              </a:gs>
            </a:gsLst>
            <a:lin ang="5400000"/>
          </a:gradFill>
          <a:ln w="0">
            <a:noFill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0" y="804960"/>
            <a:ext cx="9156600" cy="36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3"/>
          <a:stretch/>
        </p:blipFill>
        <p:spPr>
          <a:xfrm>
            <a:off x="5780160" y="982800"/>
            <a:ext cx="635040" cy="7617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6397560" y="1092240"/>
            <a:ext cx="251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4d00"/>
                </a:solidFill>
                <a:latin typeface="Lucida Grande"/>
              </a:rPr>
              <a:t>Wikispaces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"/>
          <p:cNvSpPr/>
          <p:nvPr/>
        </p:nvSpPr>
        <p:spPr>
          <a:xfrm>
            <a:off x="0" y="6337440"/>
            <a:ext cx="9144000" cy="520560"/>
          </a:xfrm>
          <a:prstGeom prst="rect">
            <a:avLst/>
          </a:prstGeom>
          <a:gradFill rotWithShape="0">
            <a:gsLst>
              <a:gs pos="0">
                <a:srgbClr val="dfebdf"/>
              </a:gs>
              <a:gs pos="100000">
                <a:srgbClr val="a0bba0"/>
              </a:gs>
            </a:gsLst>
            <a:lin ang="5400000"/>
          </a:gradFill>
          <a:ln w="0">
            <a:noFill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8772480" y="6389640"/>
            <a:ext cx="300240" cy="434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3"/>
          <a:stretch/>
        </p:blipFill>
        <p:spPr>
          <a:xfrm>
            <a:off x="-6480" y="6327720"/>
            <a:ext cx="9156960" cy="367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3"/>
          </p:nvPr>
        </p:nvSpPr>
        <p:spPr>
          <a:xfrm>
            <a:off x="6400800" y="6470280"/>
            <a:ext cx="19130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03/25/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4049640" y="6262560"/>
            <a:ext cx="23511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4"/>
          </p:nvPr>
        </p:nvSpPr>
        <p:spPr>
          <a:xfrm>
            <a:off x="8321760" y="6468840"/>
            <a:ext cx="357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D63BCC-F818-430A-B1FA-ED4009251084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1"/>
          <p:cNvSpPr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1d773c"/>
                </a:solidFill>
                <a:latin typeface="Arial"/>
                <a:ea typeface="Arial"/>
              </a:rPr>
              <a:t>Welcom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Arial"/>
                <a:ea typeface="Arial"/>
              </a:rPr>
              <a:t>Wikispaces in K–12 Education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[date and time]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Welcome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Read-only Web v. Read/Write Web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Wikis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Getting Started with Wikispaces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Wrap-up and Q&amp;A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6469560"/>
            <a:ext cx="8686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404040"/>
                </a:solidFill>
                <a:latin typeface="Arial"/>
                <a:ea typeface="Arial"/>
              </a:rPr>
              <a:t>Originally developed by Mark Wagner, Ph.D., President &amp; CEO, EdTechTeam, Inc. </a:t>
            </a:r>
            <a:endParaRPr b="0" lang="en-US" sz="11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Activity 1: Evaluate Educational Wikis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7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Locate an educational wiki relevant to your work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Evaluate the wiki based on the following criteria: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1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at is a basic description of this wiki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2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o is the intended audience for the wiki and what would they get out of it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3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o are the intended contributors for the wiki and what would they contribute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4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How does this wiki accomplish something that only a wiki can accomplish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5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How could you adapt this a model for your own work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Post your evaluations on the 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Discussion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 tab of the 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Activity 1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 page in the presentation wiki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Time permitting, explore your classmates’ evaluations. Reply to three of their posts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Activity 2: Edit a Wiki Page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9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Go to the 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Activity 2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page on the presentation wiki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Take turns with other participants adding to and editing the page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Play with some of the tools in the 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Editor toolbar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Activity 3: Create Your Own Wiki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1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http://www.wikispaces.com/site/for/teachers/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reate an Account (if you haven't already)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reate a Wiki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Edit This Page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Discussion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History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Notification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reate a New Page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Edit Navigation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Manage Wiki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My Account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reate more wikis!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Benefits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3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Engagement and motivation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ontext-embedded learning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nquiry-driven learning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ollaborative learning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Reflection and metacognition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21</a:t>
            </a:r>
            <a:r>
              <a:rPr b="0" lang="en-US" sz="2000" spc="-1" strike="noStrike" baseline="30000">
                <a:solidFill>
                  <a:srgbClr val="404040"/>
                </a:solidFill>
                <a:latin typeface="Arial"/>
                <a:ea typeface="Arial"/>
              </a:rPr>
              <a:t>st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-century skill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Concerns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nformation literacy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nappropriate content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nappropriate sharing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Threats and cyber-bullying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ntellectual property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Fraud and identity theft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Stalkers and predator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Lack of understanding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Wiki for This Workshop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7" name="Text Box 1"/>
          <p:cNvSpPr/>
          <p:nvPr/>
        </p:nvSpPr>
        <p:spPr>
          <a:xfrm>
            <a:off x="457200" y="274680"/>
            <a:ext cx="8229600" cy="57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http://</a:t>
            </a:r>
            <a:r>
              <a:rPr b="0" lang="en-US" sz="4000" spc="-1" strike="noStrike">
                <a:solidFill>
                  <a:srgbClr val="1d773c"/>
                </a:solidFill>
                <a:latin typeface="Arial"/>
                <a:ea typeface="Arial"/>
              </a:rPr>
              <a:t>somewiki</a:t>
            </a:r>
            <a:r>
              <a:rPr b="0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.wikispaces.com</a:t>
            </a:r>
            <a:endParaRPr b="0" lang="en-US" sz="4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Reflection Activity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1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at is the most important thing you learned today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2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at are your next steps for using wikis in your work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3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at do you want to learn more about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Q&amp;A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1" name="Text Box 1"/>
          <p:cNvSpPr/>
          <p:nvPr/>
        </p:nvSpPr>
        <p:spPr>
          <a:xfrm>
            <a:off x="457200" y="274680"/>
            <a:ext cx="8229600" cy="57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Go ahead, ask me anything.</a:t>
            </a:r>
            <a:endParaRPr b="0" lang="en-US" sz="4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Activity 4: Share Your Own Wiki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Post your answers on the 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Discussion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 tab of the 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Activity 4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 page in the presentation wiki: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1.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  What is the URL of your wiki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2.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  What is a basic description of your wiki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3.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  Who is the intended audience for the wiki and what should they get out of it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4.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  Who are the intended contributors for the wiki and what should they contribute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5.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  What multi-media have you integrated into your wiki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6.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  What other tools have you integrated into your wiki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7.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  What is one obstacle or issue you anticipated and how have you addressed it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8.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  What future plans do you have for your wiki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After the workshop, explore your classmates' evaluations. Reply to three of their posts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Wiki for This Workshop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1" name="Text Box 1"/>
          <p:cNvSpPr/>
          <p:nvPr/>
        </p:nvSpPr>
        <p:spPr>
          <a:xfrm>
            <a:off x="457200" y="274680"/>
            <a:ext cx="8229600" cy="57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http://</a:t>
            </a:r>
            <a:r>
              <a:rPr b="0" lang="en-US" sz="4000" spc="-1" strike="noStrike">
                <a:solidFill>
                  <a:srgbClr val="1d773c"/>
                </a:solidFill>
                <a:latin typeface="Arial"/>
                <a:ea typeface="Arial"/>
              </a:rPr>
              <a:t>somewiki</a:t>
            </a:r>
            <a:r>
              <a:rPr b="0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.wikispaces.com</a:t>
            </a:r>
            <a:endParaRPr b="0" lang="en-US" sz="4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Welcome Activity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3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1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at is the read/write web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2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at is a wiki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3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at do these things mean for you and your students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4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y are we here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Read-only Web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5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Powerful resource for educators and students, but…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nformation moves from publishers to consumer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nformation cannot be edited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One-way Web (Web 1.0)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Read/Write Web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t is now as easy to create as it is to consume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Anyone can publish, share, and change information online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Two-way Web (Web 2.0)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This is changing our world!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KaiTi"/>
              </a:rPr>
              <a:t>Wikis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9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A wiki is a website that anyone can edit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i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f you can use a word processor, you can use a wiki!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Visitors can see a history of changes and revert to earlier versions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Visitors can discuss the page in a threaded forum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Wikipedia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1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Online encyclopedia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ollaboratively authored and edited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Over 1 million users worldwide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Over 1 million articles in English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Great resource, but…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Use with caution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Educational Wikis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ollaboratively authored class text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Writing project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Group project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Sharing resource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Grade level team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Subject area team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Professional development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Professional Learning Communities (PLC)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ePortfolio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lubs, PTAs, and event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Mapping of concepts, brainstorming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Presentation tool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Wiki for This Workshop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5" name="Text Box 1"/>
          <p:cNvSpPr/>
          <p:nvPr/>
        </p:nvSpPr>
        <p:spPr>
          <a:xfrm>
            <a:off x="457200" y="274680"/>
            <a:ext cx="8229600" cy="57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http://</a:t>
            </a:r>
            <a:r>
              <a:rPr b="0" lang="en-US" sz="4000" spc="-1" strike="noStrike">
                <a:solidFill>
                  <a:srgbClr val="1d773c"/>
                </a:solidFill>
                <a:latin typeface="Arial"/>
                <a:ea typeface="Arial"/>
              </a:rPr>
              <a:t>somewiki</a:t>
            </a:r>
            <a:r>
              <a:rPr b="0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.wikispaces.com</a:t>
            </a:r>
            <a:endParaRPr b="0" lang="en-US" sz="4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8:13:11Z</dcterms:created>
  <dc:creator>Adam Frey</dc:creator>
  <dc:description/>
  <dc:language>en-US</dc:language>
  <cp:lastModifiedBy>Carole</cp:lastModifiedBy>
  <dcterms:modified xsi:type="dcterms:W3CDTF">2010-07-22T18:53:45Z</dcterms:modified>
  <cp:revision>128</cp:revision>
  <dc:subject/>
  <dc:title>Welcome</dc:title>
</cp:coreProperties>
</file>