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BC6E9-1578-49E9-9295-7C5103D643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E4C9-A3E5-4840-8619-5FF9F875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57080-FFF3-4816-B189-2FC861FB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36FBB-864B-4E18-AB84-7E65AC2BD1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B1DF-6D1B-4C28-9523-BAED0382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F12C4-DF73-4EE6-B596-4D4D6946B0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F4ACE-F3B8-43DA-95A4-900B77DF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5A512-7043-4333-B38C-5F99E5CD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9FA73-8ECA-4382-88BC-18FC2219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3EE1E-D7BC-44D3-9BD2-0ADFA7B5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EE1F-56EC-4369-B695-2360E929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2E1EB-AE8A-40D4-806A-769406D0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23682-FE42-4246-AC0B-19662201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6B0A2-D417-4FDC-AEE8-C50278A7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E2C18-1425-4479-939B-CFBD4D32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A6924-096A-448A-B4C3-C4010A16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3C19D-6B41-4B93-94F4-5D59868B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59F0E-FB45-4092-9FCD-79FC084233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12C12-E488-430B-9100-9AE8AC9F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90884-DAA5-4A97-8861-51544E6B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A4B3C-4EBA-46E9-8B46-C71F0860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246EA-7FC1-4380-BF4D-7DDF2EBA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5E639-274D-457F-AC81-81F34952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83C1B-B037-41F0-A20A-926B22FD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00800" y="6461280"/>
            <a:ext cx="19130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049640" y="62643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21760" y="6453360"/>
            <a:ext cx="3571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B85F6-8A5C-4D69-9E68-0DDB0C9301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5200"/>
              </a:gs>
              <a:gs pos="50000">
                <a:srgbClr val="4f8b4f"/>
              </a:gs>
              <a:gs pos="100000">
                <a:srgbClr val="005200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817560"/>
            <a:ext cx="9144000" cy="105732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804960"/>
            <a:ext cx="9156600" cy="3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5780160" y="982800"/>
            <a:ext cx="63504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397560" y="1092240"/>
            <a:ext cx="25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4d00"/>
                </a:solidFill>
                <a:latin typeface="Lucida Grande"/>
              </a:rPr>
              <a:t>Wikispace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400800" y="6470280"/>
            <a:ext cx="1913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49640" y="62625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8321760" y="6468840"/>
            <a:ext cx="357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E0FF0-427C-41C4-9C8F-5F710931445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d773c"/>
                </a:solidFill>
                <a:latin typeface="Arial"/>
                <a:ea typeface="Arial"/>
              </a:rPr>
              <a:t>Welcom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  <a:ea typeface="Arial"/>
              </a:rPr>
              <a:t>Wikispaces in K–12 Education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[date and time]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elcome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Read-only Web v. Read/Write Web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iki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Getting Started with Wikispace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rap-up and Q&amp;A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6469560"/>
            <a:ext cx="868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404040"/>
                </a:solidFill>
                <a:latin typeface="Arial"/>
                <a:ea typeface="Arial"/>
              </a:rPr>
              <a:t>Originally developed by Mark Wagner, Ph.D., President &amp; CEO, EdTechTeam, Inc. </a:t>
            </a:r>
            <a:endParaRPr b="0" lang="en-US" sz="11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1: Evaluate 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ocate an educational wiki relevant to your work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valuate the wiki based on the following criteria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basic description of this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is the intended audience for the wiki and what w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are the intended contributors for the wiki and what w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does this wiki accomplish something that only a wiki can accomplish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could you adapt this a model for your own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evaluation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1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ime permitting, explore your classmates’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2: Edit a Wiki Page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o to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2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age o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ake turns with other participants adding to and editing the page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lay with some of the tools i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or toolbar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3: Creat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ttp://www.wikispaces.com/site/for/teachers/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n Account (if you haven't already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This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Notification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New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Navig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nage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y Accou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more wikis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ngagement and motiv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ntext-embedded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quiry-driven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Reflection and metacogni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1</a:t>
            </a:r>
            <a:r>
              <a:rPr b="0" lang="en-US" sz="20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s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century skil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Concern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literac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cont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shar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reats and cyber-bully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tellectual propert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Fraud and identity thef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talkers and predato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ack of understand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flection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most important thing you learned today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are your next steps for using wikis in your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you want to learn more abou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Go ahead, ask me anything.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4: Shar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answer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4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the URL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a basic description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is the intended audience for the wiki and what sh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are the intended contributors for the wiki and what sh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multi-media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6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other tools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7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one obstacle or issue you anticipated and how have you addressed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8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future plans do you have for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fter the workshop, explore your classmates'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elcome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read/write web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these things mean for you and your students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y are we her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-only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werful resource for educators and students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moves from publishers to consume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cannot be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e-way Web (Web 1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/Write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t is now as easy to create as it is to consum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nyone can publish, share, and change information onlin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wo-way Web (Web 2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is is changing our world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KaiTi"/>
              </a:rPr>
              <a:t>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 wiki is a website that anyone can edit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f you can use a word processor, you can use a wiki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see a history of changes and revert to earlier version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discuss the page in a threaded forum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line encyclopedia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and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users worldwid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articles in English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eat resource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Use with cau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class tex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Writing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oup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haring resource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ade level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ubject area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developm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Learning Communities (PLC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Portfolio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lubs, PTAs, and even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pping of concepts, brainstorm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esentation too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13:11Z</dcterms:created>
  <dc:creator>Adam Frey</dc:creator>
  <dc:description/>
  <dc:language>en-US</dc:language>
  <cp:lastModifiedBy>Carole</cp:lastModifiedBy>
  <dcterms:modified xsi:type="dcterms:W3CDTF">2010-07-22T18:53:45Z</dcterms:modified>
  <cp:revision>128</cp:revision>
  <dc:subject/>
  <dc:title>Welcome</dc:title>
</cp:coreProperties>
</file>