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11E4-5366-4FFD-A70F-A646780393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5ED30-2DF8-4A26-9207-3F51AD42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EA6EE-E11B-467A-9FD3-A3AEB9C5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6AEF-09C3-472D-8CD6-A847BF8D31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D480-9D9C-4911-94B4-90CBA8EE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A1AC5-7FAC-4D19-86F0-35051EB595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04D34-D768-4ECA-8F50-E6B3AB08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CF642-F0FC-4DE6-A0D8-A01748AB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14371-6089-406E-9DAC-471AEF51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B70AC-EC17-4954-971E-355CEB81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357F-3667-4374-95E7-B0A57E78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2DE67-7A08-4D0C-A9FF-BA417085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AE6C5-4988-4DBB-90AA-CD1225CF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FADC6-0C21-4838-A60F-738E26B7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652D7-9A1B-4278-81B7-B372C212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A4DFD-AC67-42FE-8E63-C53A42D2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39FBE-BDA6-43CB-AA00-32AA0B7C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4D148-6E34-49F1-B6A0-0DEAA51A34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7FAC1-BC17-4368-B538-16DFD133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C14B-D005-4882-8A35-36B3A328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EC6A9-92D6-472E-A6CC-94B79E98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E9B0-1F4E-43B1-A71A-B80029D5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E48C-30F7-4A10-8F2B-7D14D617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20E6-6E62-47DF-98DE-05490AEA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00800" y="6461280"/>
            <a:ext cx="19130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49640" y="62643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21760" y="6453360"/>
            <a:ext cx="3571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1A6E4-C1A3-4E96-9997-D0C54B7AB0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5200"/>
              </a:gs>
              <a:gs pos="50000">
                <a:srgbClr val="4f8b4f"/>
              </a:gs>
              <a:gs pos="100000">
                <a:srgbClr val="005200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817560"/>
            <a:ext cx="9144000" cy="105732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804960"/>
            <a:ext cx="9156600" cy="3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5780160" y="982800"/>
            <a:ext cx="63504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97560" y="109224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4d00"/>
                </a:solidFill>
                <a:latin typeface="Lucida Grande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400800" y="6470280"/>
            <a:ext cx="1913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49640" y="62625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8321760" y="6468840"/>
            <a:ext cx="357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E9D41-8449-453C-86B6-A5CF3B81DCA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d773c"/>
                </a:solidFill>
                <a:latin typeface="Arial"/>
                <a:ea typeface="Arial"/>
              </a:rPr>
              <a:t>Welcom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Wikispaces in K–12 Educat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[date and time]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elcom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Read-only Web v. Read/Write Web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iki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Getting Started with Wikispace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rap-up and Q&amp;A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646956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404040"/>
                </a:solidFill>
                <a:latin typeface="Arial"/>
                <a:ea typeface="Arial"/>
              </a:rPr>
              <a:t>Originally developed by Mark Wagner, Ph.D., President &amp; CEO, EdTechTeam, Inc. </a:t>
            </a:r>
            <a:endParaRPr b="0" lang="en-US" sz="11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1: Evaluate 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ocate an educational wiki relevant to your work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valuate the wiki based on the following criteria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basic description of this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is the intended audience for the wiki and what w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are the intended contributors for the wiki and what w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does this wiki accomplish something that only a wiki can accomplish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could you adapt this a model for your own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evaluation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1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ime permitting, explore your classmates’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2: Edit a Wiki Page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o to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2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age o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ake turns with other participants adding to and editing the page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lay with some of the tools i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or toolbar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3: Creat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ttp://www.wikispaces.com/site/for/teachers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n Account (if you haven't already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This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Notification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New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Navig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nage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y Accou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more wikis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ngagement and motiv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ntext-embedded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quiry-driven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Reflection and metacogni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1</a:t>
            </a:r>
            <a:r>
              <a:rPr b="0" lang="en-US" sz="20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century skil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Concern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literac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cont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shar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reats and cyber-bully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Fraud and identity thef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talkers and predato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ack of understand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flection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most important thing you learned today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are your next steps for using wikis in your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you want to learn more abou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Go ahead, ask me anything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4: Shar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answer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the URL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a basic description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is the intended audience for the wiki and what sh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are the intended contributors for the wiki and what sh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multi-media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other tools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7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one obstacle or issue you anticipated and how have you addressed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8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future plans do you have for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fter the workshop, explore your classmates'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elcome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read/write web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these things mean for you and your students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y are we her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-only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werful resource for educators and students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moves from publishers to consume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cannot be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e-way Web (Web 1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/Write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t is now as easy to create as it is to consum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nyone can publish, share, and change information onlin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wo-way Web (Web 2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is is changing our world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KaiTi"/>
              </a:rPr>
              <a:t>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 wiki is a website that anyone can edit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f you can use a word processor, you can use a wiki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see a history of changes and revert to earlier version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discuss the page in a threaded forum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line encyclopedia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and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users worldwid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articles in English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eat resource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Use with cau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class tex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Writing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oup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haring resource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ade level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ubject area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Learning Communities (PLC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Portfolio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lubs, PTAs, and even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pping of concepts, brainstorm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esentation too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13:11Z</dcterms:created>
  <dc:creator>Adam Frey</dc:creator>
  <dc:description/>
  <dc:language>en-US</dc:language>
  <cp:lastModifiedBy>Carole</cp:lastModifiedBy>
  <dcterms:modified xsi:type="dcterms:W3CDTF">2010-07-22T18:53:45Z</dcterms:modified>
  <cp:revision>128</cp:revision>
  <dc:subject/>
  <dc:title>Welcome</dc:title>
</cp:coreProperties>
</file>